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wmf" ContentType="image/x-wmf"/>
  <Override PartName="/ppt/media/image56.png" ContentType="image/png"/>
  <Override PartName="/ppt/media/image54.png" ContentType="image/png"/>
  <Override PartName="/ppt/media/image53.png" ContentType="image/png"/>
  <Override PartName="/ppt/media/image107.wmf" ContentType="image/x-wmf"/>
  <Override PartName="/ppt/media/image52.png" ContentType="image/png"/>
  <Override PartName="/ppt/media/image106.wmf" ContentType="image/x-wmf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wmf" ContentType="image/x-wmf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1.png" ContentType="image/png"/>
  <Override PartName="/ppt/media/image29.wmf" ContentType="image/x-wmf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47.png" ContentType="image/png"/>
  <Override PartName="/ppt/media/image70.png" ContentType="image/png"/>
  <Override PartName="/ppt/media/image68.wmf" ContentType="image/x-wmf"/>
  <Override PartName="/ppt/media/image72.png" ContentType="image/png"/>
  <Override PartName="/ppt/media/image57.wmf" ContentType="image/x-wmf"/>
  <Override PartName="/ppt/media/image97.png" ContentType="image/png"/>
  <Override PartName="/ppt/media/image60.png" ContentType="image/png"/>
  <Override PartName="/ppt/media/image79.png" ContentType="image/png"/>
  <Override PartName="/ppt/media/image85.wmf" ContentType="image/x-wmf"/>
  <Override PartName="/ppt/media/image87.png" ContentType="image/png"/>
  <Override PartName="/ppt/media/image71.png" ContentType="image/png"/>
  <Override PartName="/ppt/media/image69.wmf" ContentType="image/x-wmf"/>
  <Override PartName="/ppt/media/image109.wmf" ContentType="image/x-wmf"/>
  <Override PartName="/ppt/media/image65.wmf" ContentType="image/x-wmf"/>
  <Override PartName="/ppt/media/image101.wmf" ContentType="image/x-wmf"/>
  <Override PartName="/ppt/media/image99.png" ContentType="image/png"/>
  <Override PartName="/ppt/media/image62.png" ContentType="image/png"/>
  <Override PartName="/ppt/media/image98.wmf" ContentType="image/x-wmf"/>
  <Override PartName="/ppt/media/image19.wmf" ContentType="image/x-wmf"/>
  <Override PartName="/ppt/media/image102.wmf" ContentType="image/x-wmf"/>
  <Override PartName="/ppt/media/image95.wmf" ContentType="image/x-wmf"/>
  <Override PartName="/ppt/media/image96.wmf" ContentType="image/x-wmf"/>
  <Override PartName="/ppt/media/image77.wmf" ContentType="image/x-wmf"/>
  <Override PartName="/ppt/media/image94.png" ContentType="image/png"/>
  <Override PartName="/ppt/media/image55.wmf" ContentType="image/x-wmf"/>
  <Override PartName="/ppt/media/image105.png" ContentType="image/png"/>
  <Override PartName="/ppt/media/image76.wmf" ContentType="image/x-wmf"/>
  <Override PartName="/ppt/media/image93.png" ContentType="image/png"/>
  <Override PartName="/ppt/media/image104.png" ContentType="image/png"/>
  <Override PartName="/ppt/media/image75.wmf" ContentType="image/x-wmf"/>
  <Override PartName="/ppt/media/image35.png" ContentType="image/png"/>
  <Override PartName="/ppt/media/image92.png" ContentType="image/png"/>
  <Override PartName="/ppt/media/image103.png" ContentType="image/png"/>
  <Override PartName="/ppt/media/image74.wmf" ContentType="image/x-wmf"/>
  <Override PartName="/ppt/media/image89.png" ContentType="image/png"/>
  <Override PartName="/ppt/media/image91.png" ContentType="image/png"/>
  <Override PartName="/ppt/media/image73.wmf" ContentType="image/x-wmf"/>
  <Override PartName="/ppt/media/image88.png" ContentType="image/png"/>
  <Override PartName="/ppt/media/image90.png" ContentType="image/png"/>
  <Override PartName="/ppt/media/image67.wmf" ContentType="image/x-wmf"/>
  <Override PartName="/ppt/media/image27.wmf" ContentType="image/x-wmf"/>
  <Override PartName="/ppt/media/image23.wmf" ContentType="image/x-wmf"/>
  <Override PartName="/ppt/media/image66.png" ContentType="image/png"/>
  <Override PartName="/ppt/media/image26.wmf" ContentType="image/x-wmf"/>
  <Override PartName="/ppt/media/image25.wmf" ContentType="image/x-wmf"/>
  <Override PartName="/ppt/media/image21.wmf" ContentType="image/x-wmf"/>
  <Override PartName="/ppt/media/image64.png" ContentType="image/png"/>
  <Override PartName="/ppt/media/image24.png" ContentType="image/png"/>
  <Override PartName="/ppt/media/image22.png" ContentType="image/png"/>
  <Override PartName="/ppt/media/image20.wmf" ContentType="image/x-wmf"/>
  <Override PartName="/ppt/media/image63.png" ContentType="image/png"/>
  <Override PartName="/ppt/media/image58.png" ContentType="image/png"/>
  <Override PartName="/ppt/media/image80.wmf" ContentType="image/x-wmf"/>
  <Override PartName="/ppt/media/image17.png" ContentType="image/png"/>
  <Override PartName="/ppt/media/image5.png" ContentType="image/png"/>
  <Override PartName="/ppt/media/image82.png" ContentType="image/png"/>
  <Override PartName="/ppt/media/image28.wmf" ContentType="image/x-wmf"/>
  <Override PartName="/ppt/media/image78.wmf" ContentType="image/x-wmf"/>
  <Override PartName="/ppt/media/image10.png" ContentType="image/png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F63-2CC1-4DFD-AAAC-A4E78E4B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E05-D57B-4F46-83E4-651DF842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5A7-8367-4DC3-96B4-492CB89B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EBC-9097-422C-A499-F3AE4C6B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4D40-FDC2-4399-B5F2-A15D447F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FDD-5412-4613-80DE-847EAE74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A4A-3FE2-4E16-B918-4C5211A5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9FF-570C-4AFB-9208-7B438B04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62F-942A-4D50-B9B0-D4C6246B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9D2-7E30-4329-8DD5-93E0F8A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6A6-6B73-4585-A5B5-D76A7083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8CE-E913-4456-876D-EE700E1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66D1-7BD0-4864-BF33-94AE20DA0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3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image" Target="../media/image50.pn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image" Target="../media/image5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7.wmf"/><Relationship Id="rId7" Type="http://schemas.openxmlformats.org/officeDocument/2006/relationships/image" Target="../media/image58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9.wmf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61.wmf"/><Relationship Id="rId13" Type="http://schemas.openxmlformats.org/officeDocument/2006/relationships/image" Target="../media/image6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wmf"/><Relationship Id="rId3" Type="http://schemas.openxmlformats.org/officeDocument/2006/relationships/image" Target="../media/image7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8.wmf"/><Relationship Id="rId2" Type="http://schemas.openxmlformats.org/officeDocument/2006/relationships/image" Target="../media/image75.wmf"/><Relationship Id="rId3" Type="http://schemas.openxmlformats.org/officeDocument/2006/relationships/image" Target="../media/image79.png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7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wmf"/><Relationship Id="rId5" Type="http://schemas.openxmlformats.org/officeDocument/2006/relationships/image" Target="../media/image85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png"/><Relationship Id="rId5" Type="http://schemas.openxmlformats.org/officeDocument/2006/relationships/image" Target="../media/image98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10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01.wmf"/><Relationship Id="rId3" Type="http://schemas.openxmlformats.org/officeDocument/2006/relationships/image" Target="../media/image105.png"/><Relationship Id="rId4" Type="http://schemas.openxmlformats.org/officeDocument/2006/relationships/image" Target="../media/image106.wmf"/><Relationship Id="rId5" Type="http://schemas.openxmlformats.org/officeDocument/2006/relationships/image" Target="../media/image107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nomial Functions an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398600"/>
            <a:ext cx="8915400" cy="32497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3552840" cy="403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378792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915400" cy="15084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0" y="2286000"/>
            <a:ext cx="8947080" cy="3235320"/>
            <a:chOff x="0" y="2286000"/>
            <a:chExt cx="8947080" cy="323532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0" y="2286000"/>
              <a:ext cx="4354560" cy="32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952880" y="2438280"/>
              <a:ext cx="3994200" cy="308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9160" y="1863720"/>
            <a:ext cx="8926560" cy="29368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3080" y="3147840"/>
            <a:ext cx="8458200" cy="5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915400" cy="455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3429000" cy="50796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0" y="2965320"/>
            <a:ext cx="2971800" cy="2597040"/>
            <a:chOff x="0" y="2965320"/>
            <a:chExt cx="2971800" cy="259704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0" y="2965320"/>
              <a:ext cx="2971800" cy="25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5"/>
            <a:stretch/>
          </p:blipFill>
          <p:spPr>
            <a:xfrm>
              <a:off x="1752480" y="4822560"/>
              <a:ext cx="106704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3232080" y="3048120"/>
            <a:ext cx="2863800" cy="2514600"/>
            <a:chOff x="3232080" y="3048120"/>
            <a:chExt cx="2863800" cy="2514600"/>
          </a:xfrm>
        </p:grpSpPr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232080" y="3048120"/>
              <a:ext cx="286380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635280"/>
              <a:ext cx="1371600" cy="555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362320" y="2971800"/>
            <a:ext cx="1447560" cy="971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5638680" y="2819520"/>
            <a:ext cx="790560" cy="94284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6324480" y="2914560"/>
            <a:ext cx="2743200" cy="2571840"/>
            <a:chOff x="6324480" y="2914560"/>
            <a:chExt cx="2743200" cy="2571840"/>
          </a:xfrm>
        </p:grpSpPr>
        <p:pic>
          <p:nvPicPr>
            <p:cNvPr id="90" name="" descr=""/>
            <p:cNvPicPr/>
            <p:nvPr/>
          </p:nvPicPr>
          <p:blipFill>
            <a:blip r:embed="rId10"/>
            <a:stretch/>
          </p:blipFill>
          <p:spPr>
            <a:xfrm>
              <a:off x="6324480" y="2914560"/>
              <a:ext cx="2505240" cy="25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11"/>
            <a:stretch/>
          </p:blipFill>
          <p:spPr>
            <a:xfrm>
              <a:off x="6477120" y="5048280"/>
              <a:ext cx="2590560" cy="36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915400" cy="45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905120" y="1650960"/>
            <a:ext cx="4647960" cy="10461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04920" y="3625920"/>
            <a:ext cx="2571480" cy="2209680"/>
            <a:chOff x="304920" y="3625920"/>
            <a:chExt cx="2571480" cy="2209680"/>
          </a:xfrm>
        </p:grpSpPr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304920" y="3625920"/>
              <a:ext cx="257148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1828800" y="5226120"/>
              <a:ext cx="990720" cy="40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352680" y="3701880"/>
            <a:ext cx="2743200" cy="2105280"/>
            <a:chOff x="3352680" y="3701880"/>
            <a:chExt cx="2743200" cy="210528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3352680" y="3701880"/>
              <a:ext cx="2571840" cy="210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4647960" y="5302080"/>
              <a:ext cx="1447920" cy="47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6448320" y="3664080"/>
            <a:ext cx="2695680" cy="2203200"/>
            <a:chOff x="6448320" y="3664080"/>
            <a:chExt cx="2695680" cy="2203200"/>
          </a:xfrm>
        </p:grpSpPr>
        <p:pic>
          <p:nvPicPr>
            <p:cNvPr id="102" name="" descr=""/>
            <p:cNvPicPr/>
            <p:nvPr/>
          </p:nvPicPr>
          <p:blipFill>
            <a:blip r:embed="rId8"/>
            <a:stretch/>
          </p:blipFill>
          <p:spPr>
            <a:xfrm>
              <a:off x="6448320" y="3664080"/>
              <a:ext cx="269568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9"/>
            <a:stretch/>
          </p:blipFill>
          <p:spPr>
            <a:xfrm>
              <a:off x="7010280" y="5378400"/>
              <a:ext cx="1676520" cy="48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2362320" y="3473280"/>
            <a:ext cx="1819080" cy="943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5791320" y="3397320"/>
            <a:ext cx="1409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81392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7296120" cy="4419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7040" y="5133960"/>
            <a:ext cx="8734680" cy="149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38600" cy="581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8600" y="1066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 polynomial of degree 3 whose zeros are -4, -2, and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828800" y="1793880"/>
          <a:ext cx="457200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93880"/>
                    <a:ext cx="457200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88920" y="3135240"/>
            <a:ext cx="3098880" cy="2198880"/>
            <a:chOff x="88920" y="3135240"/>
            <a:chExt cx="3098880" cy="219888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304920" y="3657600"/>
              <a:ext cx="2514600" cy="1676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16" name=""/>
            <p:cNvGraphicFramePr/>
            <p:nvPr/>
          </p:nvGraphicFramePr>
          <p:xfrm>
            <a:off x="88920" y="3135240"/>
            <a:ext cx="3098880" cy="446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8920" y="3135240"/>
                      <a:ext cx="309888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8" name=""/>
          <p:cNvGrpSpPr/>
          <p:nvPr/>
        </p:nvGrpSpPr>
        <p:grpSpPr>
          <a:xfrm>
            <a:off x="2557440" y="3657600"/>
            <a:ext cx="3505320" cy="2230560"/>
            <a:chOff x="2557440" y="3657600"/>
            <a:chExt cx="3505320" cy="2230560"/>
          </a:xfrm>
        </p:grpSpPr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3200400" y="3657600"/>
              <a:ext cx="2514600" cy="1676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20" name=""/>
            <p:cNvGraphicFramePr/>
            <p:nvPr/>
          </p:nvGraphicFramePr>
          <p:xfrm>
            <a:off x="2557440" y="5410080"/>
            <a:ext cx="3505320" cy="478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57440" y="5410080"/>
                      <a:ext cx="350532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5638680" y="3151080"/>
            <a:ext cx="3505320" cy="2190960"/>
            <a:chOff x="5638680" y="3151080"/>
            <a:chExt cx="3505320" cy="2190960"/>
          </a:xfrm>
        </p:grpSpPr>
        <p:pic>
          <p:nvPicPr>
            <p:cNvPr id="123" name="" descr=""/>
            <p:cNvPicPr/>
            <p:nvPr/>
          </p:nvPicPr>
          <p:blipFill>
            <a:blip r:embed="rId10"/>
            <a:stretch/>
          </p:blipFill>
          <p:spPr>
            <a:xfrm>
              <a:off x="6095880" y="3665520"/>
              <a:ext cx="2514600" cy="1676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aphicFrame>
          <p:nvGraphicFramePr>
            <p:cNvPr id="124" name=""/>
            <p:cNvGraphicFramePr/>
            <p:nvPr/>
          </p:nvGraphicFramePr>
          <p:xfrm>
            <a:off x="5638680" y="3151080"/>
            <a:ext cx="3505320" cy="478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38680" y="3151080"/>
                      <a:ext cx="350532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200400" y="304920"/>
            <a:ext cx="5638680" cy="4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09520" y="3152880"/>
            <a:ext cx="84772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01280" cy="685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grpSp>
        <p:nvGrpSpPr>
          <p:cNvPr id="128" name=""/>
          <p:cNvGrpSpPr/>
          <p:nvPr/>
        </p:nvGrpSpPr>
        <p:grpSpPr>
          <a:xfrm>
            <a:off x="228600" y="2438280"/>
            <a:ext cx="8572680" cy="2133720"/>
            <a:chOff x="228600" y="2438280"/>
            <a:chExt cx="8572680" cy="213372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3124080" y="2590920"/>
              <a:ext cx="567720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"/>
            <a:stretch/>
          </p:blipFill>
          <p:spPr>
            <a:xfrm>
              <a:off x="228600" y="2438280"/>
              <a:ext cx="2590920" cy="530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31" name=""/>
            <p:cNvGraphicFramePr/>
            <p:nvPr/>
          </p:nvGraphicFramePr>
          <p:xfrm>
            <a:off x="1600200" y="3905280"/>
            <a:ext cx="4819680" cy="666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600200" y="3905280"/>
                      <a:ext cx="48196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3" name=""/>
            <p:cNvSpPr/>
            <p:nvPr/>
          </p:nvSpPr>
          <p:spPr>
            <a:xfrm>
              <a:off x="533520" y="327672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or the polynomial, list all zeros and their multipliciti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209680" cy="47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2296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228600" y="1066680"/>
            <a:ext cx="8915400" cy="237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04920" y="3781440"/>
            <a:ext cx="8681760" cy="30002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25642" t="0" r="49575" b="77505"/>
          <a:stretch/>
        </p:blipFill>
        <p:spPr>
          <a:xfrm>
            <a:off x="457200" y="1371600"/>
            <a:ext cx="3048120" cy="736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04920" y="3781440"/>
            <a:ext cx="8681760" cy="300024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952880" y="228600"/>
            <a:ext cx="383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86800" cy="153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52280" y="3587760"/>
            <a:ext cx="8839440" cy="144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528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320" y="2819520"/>
            <a:ext cx="5562360" cy="39574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729400" y="2971800"/>
            <a:ext cx="3414600" cy="3668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743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528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5408640" cy="29926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grpSp>
        <p:nvGrpSpPr>
          <p:cNvPr id="149" name=""/>
          <p:cNvGrpSpPr/>
          <p:nvPr/>
        </p:nvGrpSpPr>
        <p:grpSpPr>
          <a:xfrm>
            <a:off x="5791320" y="2971800"/>
            <a:ext cx="3109320" cy="3692160"/>
            <a:chOff x="5791320" y="2971800"/>
            <a:chExt cx="3109320" cy="3692160"/>
          </a:xfrm>
        </p:grpSpPr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5791320" y="2971800"/>
              <a:ext cx="3109320" cy="36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7497000" y="4042800"/>
              <a:ext cx="1231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4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-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943600" y="228600"/>
            <a:ext cx="2743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15019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411640" cy="2590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800600" y="3384720"/>
            <a:ext cx="4543560" cy="347328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971800" y="1905120"/>
            <a:ext cx="2500200" cy="2625480"/>
            <a:chOff x="2971800" y="1905120"/>
            <a:chExt cx="2500200" cy="2625480"/>
          </a:xfrm>
        </p:grpSpPr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971800" y="1905120"/>
              <a:ext cx="2500200" cy="26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343400" y="2666880"/>
              <a:ext cx="990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= 4(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-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2868840" cy="449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743200" cy="2498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8839440" cy="2077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04920" y="2286000"/>
            <a:ext cx="16984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286000" cy="4906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304920"/>
            <a:ext cx="6400800" cy="40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8991720" cy="9237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rcRect l="51797" t="0" r="0" b="0"/>
          <a:stretch/>
        </p:blipFill>
        <p:spPr>
          <a:xfrm>
            <a:off x="4343400" y="3814920"/>
            <a:ext cx="4648320" cy="27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rcRect l="0" t="0" r="49554" b="0"/>
          <a:stretch/>
        </p:blipFill>
        <p:spPr>
          <a:xfrm>
            <a:off x="304920" y="1905120"/>
            <a:ext cx="4876560" cy="27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2057400" cy="81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23920" y="1857240"/>
            <a:ext cx="8696160" cy="3143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3200400" y="304920"/>
            <a:ext cx="25988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3920" y="2419200"/>
            <a:ext cx="8696160" cy="201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38280" y="210960"/>
            <a:ext cx="67057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57200"/>
            <a:ext cx="2514600" cy="509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2571480" cy="33721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2514600" y="3314880"/>
            <a:ext cx="2571840" cy="3466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572000" y="1333440"/>
            <a:ext cx="2448000" cy="3086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6553080" y="3581280"/>
            <a:ext cx="23814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828800" cy="392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6737400" cy="374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8134200" cy="1023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28600" y="1905120"/>
            <a:ext cx="4800600" cy="2571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4619520" y="4114800"/>
            <a:ext cx="45244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9440" y="1476360"/>
            <a:ext cx="8915400" cy="3162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920" y="3065400"/>
            <a:ext cx="853416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2467080" cy="528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7620120" cy="527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28600" y="2209680"/>
            <a:ext cx="87631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105520" cy="4481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454640" y="1905120"/>
            <a:ext cx="468936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2210040" cy="4730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362320" y="228600"/>
            <a:ext cx="6781680" cy="468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90520" y="838080"/>
            <a:ext cx="8853480" cy="10130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0" y="2232000"/>
            <a:ext cx="4952880" cy="4626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5060880" y="2757600"/>
            <a:ext cx="4083120" cy="35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0" t="0" r="14487" b="0"/>
          <a:stretch/>
        </p:blipFill>
        <p:spPr>
          <a:xfrm>
            <a:off x="76320" y="82440"/>
            <a:ext cx="899136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96" name=""/>
          <p:cNvGraphicFramePr/>
          <p:nvPr/>
        </p:nvGraphicFramePr>
        <p:xfrm>
          <a:off x="266760" y="676440"/>
          <a:ext cx="8267760" cy="579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676440"/>
                    <a:ext cx="8267760" cy="57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152280"/>
            <a:ext cx="8915400" cy="53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 for Graphing a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nalyze the graph of a polynomial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)  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0.  The solutions, if any, are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 Determine whether the graph touches or crosse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at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intercept is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This gives the point (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n the graph.  (Eas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behavior:  find the power function that the graph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esembles for large values of 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all the information together to obtain the graph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2120" y="1219320"/>
                <a:ext cx="72262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838240" cy="581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315200" cy="58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5200" y="1828800"/>
            <a:ext cx="8848800" cy="62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143000" y="2743200"/>
            <a:ext cx="2571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334120" y="2781360"/>
            <a:ext cx="196200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133640" y="3733920"/>
            <a:ext cx="2295360" cy="704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5257800" y="3809880"/>
            <a:ext cx="1743120" cy="542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1219320" y="4952880"/>
            <a:ext cx="1657080" cy="51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5410080" y="5010120"/>
            <a:ext cx="31338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280" y="2362320"/>
            <a:ext cx="89838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143000" y="10666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the Properties of the Graphs of Polynomia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334040" cy="3143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2805120"/>
            <a:ext cx="4572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094200" cy="42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4952880"/>
            <a:ext cx="8315280" cy="787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2760" y="1676520"/>
            <a:ext cx="89312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438120"/>
            <a:ext cx="3733560" cy="3543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90840" cy="383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" y="4572000"/>
            <a:ext cx="8358120" cy="18795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16794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2306520"/>
            <a:ext cx="9144000" cy="4133880"/>
            <a:chOff x="0" y="2306520"/>
            <a:chExt cx="9144000" cy="413388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2306520"/>
              <a:ext cx="4648320" cy="394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4572000" y="2708280"/>
              <a:ext cx="4572000" cy="373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4:13Z</dcterms:created>
  <dc:creator>Harry S. Mills</dc:creator>
  <dc:description/>
  <dc:language>en-US</dc:language>
  <cp:lastModifiedBy>Harry S. Mills</cp:lastModifiedBy>
  <dcterms:modified xsi:type="dcterms:W3CDTF">2007-12-29T23:40:29Z</dcterms:modified>
  <cp:revision>5</cp:revision>
  <dc:subject/>
  <dc:title>Slide 1</dc:title>
</cp:coreProperties>
</file>